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1F2A65D-E0D1-4EC4-B58B-53A5D1528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35160" y="698400"/>
            <a:ext cx="4875120" cy="3656160"/>
          </a:xfrm>
          <a:prstGeom prst="rect">
            <a:avLst/>
          </a:prstGeom>
          <a:ln w="0">
            <a:noFill/>
          </a:ln>
        </p:spPr>
      </p:sp>
      <p:sp>
        <p:nvSpPr>
          <p:cNvPr id="45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615838A-D322-4765-8546-9292B606B866}"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35160" y="698400"/>
            <a:ext cx="4875120" cy="3656160"/>
          </a:xfrm>
          <a:prstGeom prst="rect">
            <a:avLst/>
          </a:prstGeom>
          <a:ln w="0">
            <a:noFill/>
          </a:ln>
        </p:spPr>
      </p:sp>
      <p:sp>
        <p:nvSpPr>
          <p:cNvPr id="48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on l'a vu plus haut, la gestion et l'amélioration de la «Qualité des soins» sont la responsabilité de tous: les clientes, la communauté, les prestataires et les gestionnaires. La qualité signifie différentes choses pour chaque partie concernée, mais chaque partie prenante joue également un rôle dans l'amélioration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gestionnaires? (Par exemple, rassembler l'équipe, aider à élaborer un plan d'action, soutenir les demandes à des niveaux plus élevés, organiser la formation, fournir des commentaires sur les données et les améli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faire la communauté? (Par exemple, soutien de l’établissement pour résoudre des problèmes avec les ressources communautaires telles que l'approvisionnement en eau, encourager l'utilisation des services, donner un feedback, utiliser les réseaux communautaires existants et les forums pour partager des informations et commu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prestataires de services? (Par exemple, apprendre et appliquer de nouvelles compétences et compétences, enregistrer les procédures, soumettre des données, surveiller les progrès, fournir des soins avec respect, engager les clientes et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clientes? (Par exemple, participer aux activités et à l'engagement, fournir des commentaires sur ce qui est important pour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des soins nécessite une approche par équ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vons-nous travailler tous ensemble ?</a:t>
            </a:r>
            <a:endParaRPr b="0" lang="en-US" sz="1200" spc="-1" strike="noStrike">
              <a:solidFill>
                <a:srgbClr val="000000"/>
              </a:solidFill>
              <a:latin typeface="Times New Roman"/>
            </a:endParaRPr>
          </a:p>
        </p:txBody>
      </p:sp>
      <p:sp>
        <p:nvSpPr>
          <p:cNvPr id="48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4BE6CBE-6075-412E-BE17-EB07C05AF46B}"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35160" y="698400"/>
            <a:ext cx="4875120" cy="3656160"/>
          </a:xfrm>
          <a:prstGeom prst="rect">
            <a:avLst/>
          </a:prstGeom>
          <a:ln w="0">
            <a:noFill/>
          </a:ln>
        </p:spPr>
      </p:sp>
      <p:sp>
        <p:nvSpPr>
          <p:cNvPr id="48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registrements et des dossiers des clientes corrects,  et des rapports réguliers sont à la base de tout suivi des services et soins de sa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travaillez sur des améliorations, surveillez les domaines que vous avez ciblés qui pourrait nécessiter des mesures ou des informations supp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si vous mettez l'accent sur l'amélioration de la qualité du counseling, comment savez-vous que vous progressez? Quelles données vous diront que vous apportez des améliorations? Si vous amélioriez la confidentialité des clientes recevant des soins, comment savez-vous que vous faites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s sont les données qui pourraient vous renseigner sur la qualité de vo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des informations supplémentaires que vous aimeriez 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rriez-vous les ob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pour conclure : </a:t>
            </a:r>
            <a:r>
              <a:rPr b="0" i="1" lang="en-US" sz="1200" spc="-1" strike="noStrike">
                <a:solidFill>
                  <a:srgbClr val="000000"/>
                </a:solidFill>
                <a:latin typeface="Times New Roman"/>
              </a:rPr>
              <a:t>Faire ce qu’il faut, quand il le faut,  comme il le faut pour chaque personne, à chaque fois” </a:t>
            </a:r>
            <a:r>
              <a:rPr b="0" lang="en-US" sz="1200" spc="-1" strike="noStrike">
                <a:solidFill>
                  <a:srgbClr val="000000"/>
                </a:solidFill>
                <a:latin typeface="Times New Roman"/>
              </a:rPr>
              <a:t>est un effort d’équipe.</a:t>
            </a:r>
            <a:endParaRPr b="0" lang="en-US" sz="1200" spc="-1" strike="noStrike">
              <a:solidFill>
                <a:srgbClr val="000000"/>
              </a:solidFill>
              <a:latin typeface="Times New Roman"/>
            </a:endParaRPr>
          </a:p>
        </p:txBody>
      </p:sp>
      <p:sp>
        <p:nvSpPr>
          <p:cNvPr id="48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85D0F2D-0674-4D2C-9793-A3C6E6F2FAC6}"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35160" y="698400"/>
            <a:ext cx="4875120" cy="3656160"/>
          </a:xfrm>
          <a:prstGeom prst="rect">
            <a:avLst/>
          </a:prstGeom>
          <a:ln w="0">
            <a:noFill/>
          </a:ln>
        </p:spPr>
      </p:sp>
      <p:sp>
        <p:nvSpPr>
          <p:cNvPr id="48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9231458-EC80-4451-BB44-2BF0890F2F5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nous aborderons brièvement la qualité des soins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D0900FB-83C1-481B-8331-7EB992643A2B}"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Qu’est-ce qu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du groupe, puis montrez la définition écrite dans le tableau de bord plus tôt, puis cliquez pour afficher la définition sur la dia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iquez que la qualité n'est pas seulement le contenu des soins fournis  à la cliente (p. Ex., L'insertion correcte du DIU), mais aussi la façon dont la cliente perçoit ces soins (p. Ex., Si un prestataire de services est grossier et traite une cliente sans respect pendant l'insertion du DIU, bien que l'insertion soit correcte, les soins dispensés ne seraient probablement pas considérés comme de bonne qualité par la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esoins en matière de qualité de soins doivent intégrer une approche axée sur le client</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FBA511C-60A2-4972-AC81-46706CA2C65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manière qu'il y a de nombreux intervenants en matière de qualité, il existe différents aspects de la qualité. La qualité représente beaucoup de ch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itut de médecine décrit six aspects de la qu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 « Des soins sûrs, qu’est ce que ca veut dire"? «Des soins efficaces, qu’est-ce que ca veut dir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dez-les à décrire toutes les bu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prévenir les blessures causées par des soins qui sont destinés à aider les pat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ité : fournir des services basés sur des connaissances scientif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xés sur la patiente: fournir des soins qui répondent aux préférences, aux besoins et aux valeurs des patients individuels et assurer que les valeurs des patients guident toutes les décisions cli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temps opportun: réduire les attentes et parfois des retards dommageables pour ceux qui reçoivent des soins et ceux qui prennent s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ients: éviter le gaspillage, y compris le gaspillage d'équipement, de fournitures, d'idées et d'é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té: fournir des soins qui ne varient pas en qualité en raison de caractéristiques personnelles telles que le sexe, l'origine ethnique, la situation géographique ou le statut socioéconomique.</a:t>
            </a: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E938CC5-B55C-4C8F-93C7-798AC4989910}"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cela a été discuté au cours de la session, il existe différents intervenants qui s'intéressent à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et les communautés so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et les gestionnaires sont égaleme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qualité des soins est importante pour chaque intervenant, mais pour différentes ra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pourquoi la qualité des soins est-elle importante pour les gestionnaires?» «Pourquoi la qualité des soins est-elle importante pour l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sez-vous que les clientes de planification familiale préféreront s'adresser aux établissements offrant des services de qualité (par exemple, les produits et le personnel disponibles, les médicaments, le respect, la vie privée)? Pourquoi? Pourquoi cela serait-il important pour les prestataires de services? Les gestionnaires</a:t>
            </a: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DB4ACD0-6024-4CDA-8887-BB3D4BB6286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35160" y="698400"/>
            <a:ext cx="4875120" cy="3656160"/>
          </a:xfrm>
          <a:prstGeom prst="rect">
            <a:avLst/>
          </a:prstGeom>
          <a:ln w="0">
            <a:noFill/>
          </a:ln>
        </p:spPr>
      </p:sp>
      <p:sp>
        <p:nvSpPr>
          <p:cNvPr id="46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s sont certains des problèmes communs que nous avons dans le domaine de la planification familiale qui peuvent avoir un impact sur la qualité des soins / la planification familiale? Rappelez-vous, la qualité des soins comprend de nombreuses choses diffé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 par exe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attendent longtemps et certaines partent avant de recevoir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e reçoivent pas suffisamment de conse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ont pas le choix entre toutes les méthode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ne savent pas comment fournir une méthode que les clientes souhaitent (p. Ex. Implant ou DI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uvaises pratiques de prévention des infections dans l'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 de ces exemples est différent et nécessite une solution différente. Il existe de nombreuses actions différentes qui peuvent être prises pour améliorer la qualité, mais elles doivent être adaptées au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des mesures communes prises pour améliorer un problème et améliorer la qualité compren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forcement des capacités (formation, pratique,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monitoring et encad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tes de vérification et outils de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valuation et planification d'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eedback et engagement d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amen des dossiers des clientes</a:t>
            </a:r>
            <a:endParaRPr b="0" lang="en-US" sz="1200" spc="-1" strike="noStrike">
              <a:solidFill>
                <a:srgbClr val="000000"/>
              </a:solidFill>
              <a:latin typeface="Times New Roman"/>
            </a:endParaRPr>
          </a:p>
        </p:txBody>
      </p:sp>
      <p:sp>
        <p:nvSpPr>
          <p:cNvPr id="47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99DD568-AF01-4F51-B476-AF299C2A54F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35160" y="698400"/>
            <a:ext cx="4875120" cy="3656160"/>
          </a:xfrm>
          <a:prstGeom prst="rect">
            <a:avLst/>
          </a:prstGeom>
          <a:ln w="0">
            <a:noFill/>
          </a:ln>
        </p:spPr>
      </p:sp>
      <p:sp>
        <p:nvSpPr>
          <p:cNvPr id="47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réel d'un établissement qui a eu des pratiques déficients de prévention des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d'abord, ils ont effectué une évaluation pour comprendre quels étaient les problèmes dans leur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base de cette évaluation, ils ont élaboré un plan d'action pour résoudre les nombreux problèmes qu'ils ont rencon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es problèmes qu'ils ont identifiés étaient liés à la capacité et ils ont suggéré différentes façons d'aborder le personnel et les compé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six mois, l'équipe a réévalué l’établissement pour voir si il y avait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valuation peut être un processus aussi simple qu'une équipe qui fait le tour de l’établissement pour noter les lacunes ou beaucoup plu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75B738E6-074C-4694-8C4B-D38F3E20A0EC}"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35160" y="698400"/>
            <a:ext cx="4875120" cy="3656160"/>
          </a:xfrm>
          <a:prstGeom prst="rect">
            <a:avLst/>
          </a:prstGeom>
          <a:ln w="0">
            <a:noFill/>
          </a:ln>
        </p:spPr>
      </p:sp>
      <p:sp>
        <p:nvSpPr>
          <p:cNvPr id="47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d'une liste de vérification que l'un des établissement utilisait pour évaluer leurs approvisionnements en prévention des infe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35160" y="698400"/>
            <a:ext cx="4875120" cy="3656160"/>
          </a:xfrm>
          <a:prstGeom prst="rect">
            <a:avLst/>
          </a:prstGeom>
          <a:ln w="0">
            <a:noFill/>
          </a:ln>
        </p:spPr>
      </p:sp>
      <p:sp>
        <p:nvSpPr>
          <p:cNvPr id="47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exemple de plan d'action pour aborder la prévention des infections dans un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cunes identifiés au cours des évaluations de base sont décr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partir de lacunes faciles, - la non disponibilité du chlore dans l'établissement, -il incombe au  responsable de combler cette lacune avec le soutien de tout le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le personnel a convenu volontairement de verser une petite somme d'argent pour l'achat de chlore, mais une demande sera envoyée au bureau de santé du district pour un approvisionnement conti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lacunes peuvent être résolues en interne, avec peu d'efforts et de changement d'attitude, mais quelques-unes exigent un support de niveau sup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est un processus continu nécessite un effort d'équipe.</a:t>
            </a:r>
            <a:endParaRPr b="0" lang="en-US" sz="1200" spc="-1" strike="noStrike">
              <a:solidFill>
                <a:srgbClr val="000000"/>
              </a:solidFill>
              <a:latin typeface="Times New Roman"/>
            </a:endParaRPr>
          </a:p>
        </p:txBody>
      </p:sp>
      <p:sp>
        <p:nvSpPr>
          <p:cNvPr id="47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5AEE3A63-60AA-4BC4-B153-89A1363079A7}"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53C3A-2679-40F0-8F96-5F5F8775B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98F5C7AE-C99E-44BC-8A38-8088E1F9170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12B5DD90-13B5-431B-BABE-B3B542D1B5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620FD11E-53BD-43B1-9061-B9248B062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5DB55-45C5-4739-B9AB-DE1987C405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5D4DA289-C70C-4909-97A3-6E1E49CFA5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50B20481-7EC6-4D42-96BE-8A274232E1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55DFA634-3FF6-408C-8ADE-024C07CEF4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39EABD7B-2CB9-42D8-918B-F8D13F8F96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E7355B8F-C965-4259-BD56-E0859080B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873E85E-BEDB-4CEA-BA7E-23D911D46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2EFE9779-2F4E-4875-A9A5-3AFDD2805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8E0E8828-9253-4100-8916-CC928A885C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1F3A08A-26AC-438A-A7CB-F09EA757C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D7FA30B0-ABC9-44CF-A87A-EC40C56DDC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B84BF24F-9722-478E-8908-73DB4CD80A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C8550F09-6283-446D-A4A1-394F89A64C0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9898F936-24E4-4EA3-AC9D-730AFC6142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7B560F55-3927-4208-A3CD-5D5A1C8F25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4DDFFF6B-C175-4E76-819E-2FD60E2AF4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C4DC3173-E156-49D9-A53F-3A344755F9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66B60A-ADA2-4213-87FF-779F2672D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3CCB5-44E6-4D66-A4AF-64ED1260C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902FD-DDE2-4434-9BF2-472084B8F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0B70A-7C6B-4491-87E5-A51BA57C3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61E02-BBE8-4B66-BCD3-59DB4ED11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1BF00-787D-4907-AEF5-68234E56A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611EC-C59E-4E9F-9512-F85422E36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8997C-7929-41E5-9F27-2B6FFEC91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AE33F-61EA-4C26-8F2C-0D8D1560D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485E4A83-547C-4235-A6CE-558718F5D4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DCB48-17CB-44E3-BF37-6DB13C886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87092-41C1-4A33-A4D6-4CFBEFE1D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56802-9C3C-4678-A2D6-A55460578D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2D6DF9B0-416A-4D64-B9AB-FF0C62A1EC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34AE92CB-D430-4868-95BA-CC9DCB65EF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8EB6-D265-470B-AF62-065DF68F1685}"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D000-FF96-41AE-8307-8A281D7F1066}"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Pour de plus amples informations,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rendez-vous sur le site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2a6c"/>
                </a:solidFill>
                <a:latin typeface="Gill Sans MT"/>
              </a:rPr>
              <a:t>www.mcsprogram.org</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Cette présentation a été rendue possible grâce au soutien généreux du peuple américain, par le biais de l’USAID, en vertu de l’accord coopératif AID-OAA-A-14-00028. Les auteurs sont responsables de ce contenu qui ne représente pas forcément le point de vue de l’USAID ou du Gouvernement des Etats-Unis.</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4CB2-F2B5-4791-99A5-2A01B6F13655}"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ésentation 4-1 : </a:t>
            </a:r>
            <a:br>
              <a:rPr sz="4000"/>
            </a:br>
            <a:r>
              <a:rPr b="0" lang="en-US" sz="2400" spc="-1" strike="noStrike">
                <a:solidFill>
                  <a:srgbClr val="808080"/>
                </a:solidFill>
                <a:latin typeface="Gill Sans MT"/>
              </a:rPr>
              <a:t>Qualité des soins dans les services de santé</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Qui est responsable de la qualité des soins ?</a:t>
            </a:r>
            <a:endParaRPr b="0" lang="en-US" sz="3600" spc="-1" strike="noStrike">
              <a:solidFill>
                <a:srgbClr val="002a6c"/>
              </a:solidFill>
              <a:latin typeface="Gill Sans MT"/>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B595-7E4C-4B54-9B72-0D28FB4117E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43" name="TextBox 1"/>
          <p:cNvSpPr/>
          <p:nvPr/>
        </p:nvSpPr>
        <p:spPr>
          <a:xfrm>
            <a:off x="781200" y="2017800"/>
            <a:ext cx="1904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2800" spc="-1" strike="noStrike">
                <a:solidFill>
                  <a:srgbClr val="5e9dff"/>
                </a:solidFill>
                <a:latin typeface="Gill Sans MT"/>
              </a:rPr>
              <a:t> </a:t>
            </a:r>
            <a:endParaRPr b="0" lang="en-US" sz="2800" spc="-1" strike="noStrike">
              <a:solidFill>
                <a:srgbClr val="003399"/>
              </a:solidFill>
              <a:latin typeface="Arial"/>
            </a:endParaRPr>
          </a:p>
        </p:txBody>
      </p:sp>
      <p:sp>
        <p:nvSpPr>
          <p:cNvPr id="444" name="TextBox 5"/>
          <p:cNvSpPr/>
          <p:nvPr/>
        </p:nvSpPr>
        <p:spPr>
          <a:xfrm>
            <a:off x="433440" y="2625840"/>
            <a:ext cx="58388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a:t>
            </a:r>
            <a:endParaRPr b="0" lang="en-US" sz="3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auté</a:t>
            </a:r>
            <a:endParaRPr b="0" lang="en-US" sz="3800" spc="-1" strike="noStrike">
              <a:solidFill>
                <a:srgbClr val="003399"/>
              </a:solidFill>
              <a:latin typeface="Arial"/>
            </a:endParaRPr>
          </a:p>
        </p:txBody>
      </p:sp>
      <p:sp>
        <p:nvSpPr>
          <p:cNvPr id="445" name="TextBox 6"/>
          <p:cNvSpPr/>
          <p:nvPr/>
        </p:nvSpPr>
        <p:spPr>
          <a:xfrm>
            <a:off x="3505320" y="3768840"/>
            <a:ext cx="3609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46" name="TextBox 7"/>
          <p:cNvSpPr/>
          <p:nvPr/>
        </p:nvSpPr>
        <p:spPr>
          <a:xfrm>
            <a:off x="5310360" y="4422600"/>
            <a:ext cx="3171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a:t>
            </a:r>
            <a:endParaRPr b="0" lang="en-US" sz="3800" spc="-1" strike="noStrike">
              <a:solidFill>
                <a:srgbClr val="003399"/>
              </a:solidFill>
              <a:latin typeface="Arial"/>
            </a:endParaRPr>
          </a:p>
        </p:txBody>
      </p:sp>
      <p:sp>
        <p:nvSpPr>
          <p:cNvPr id="44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7f7f7f"/>
                </a:solidFill>
                <a:latin typeface="Gill Sans MT"/>
              </a:rPr>
              <a:t>Que peuvent-ils faire pour améliorer la qualité des soins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48" name="TextBox 4"/>
          <p:cNvSpPr/>
          <p:nvPr/>
        </p:nvSpPr>
        <p:spPr>
          <a:xfrm>
            <a:off x="765000" y="1320840"/>
            <a:ext cx="517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Tout le monde !</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Comment la qualité des soins est-elle évaluée et mesurée </a:t>
            </a:r>
            <a:r>
              <a:rPr b="0" lang="en-U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450" name=""/>
          <p:cNvSpPr txBox="1"/>
          <p:nvPr/>
        </p:nvSpPr>
        <p:spPr>
          <a:xfrm>
            <a:off x="304560" y="1417680"/>
            <a:ext cx="4267080" cy="4525920"/>
          </a:xfrm>
          <a:prstGeom prst="rect">
            <a:avLst/>
          </a:prstGeom>
          <a:noFill/>
          <a:ln w="0">
            <a:noFill/>
          </a:ln>
        </p:spPr>
        <p:txBody>
          <a:bodyPr anchor="t">
            <a:normAutofit fontScale="93000"/>
          </a:bodyPr>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Mettre en œuvre un suivi et une action continu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Collecter des statistiques de services de façon routinière</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Utiliser les données pour le suivi</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Analyser les donnée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Évaluer les raisons de tout changement</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Prendre des mesures / adapter</a:t>
            </a:r>
            <a:r>
              <a:rPr b="0" lang="en-US" sz="2400" spc="-1" strike="noStrike">
                <a:solidFill>
                  <a:srgbClr val="7f7f7f"/>
                </a:solidFill>
                <a:latin typeface="Gill Sans MT"/>
              </a:rPr>
              <a:t>  </a:t>
            </a:r>
            <a:endParaRPr b="0" lang="en-US" sz="2400" spc="-1" strike="noStrike">
              <a:solidFill>
                <a:srgbClr val="5f5f5f"/>
              </a:solidFill>
              <a:latin typeface="Gill Sans MT"/>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517-B28E-46AF-9AB5-D0A1B5D7FC3E}"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pic>
        <p:nvPicPr>
          <p:cNvPr id="452" name="Content Placeholder 2" descr="Image"/>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Sommaire</a:t>
            </a:r>
            <a:r>
              <a:rPr b="0" lang="en-US" sz="3300" spc="-1" strike="noStrike">
                <a:solidFill>
                  <a:srgbClr val="002a6c"/>
                </a:solidFill>
                <a:latin typeface="Gill Sans MT"/>
              </a:rPr>
              <a:t> de la présentation</a:t>
            </a:r>
            <a:endParaRPr b="0" lang="en-US" sz="3300" spc="-1" strike="noStrike">
              <a:solidFill>
                <a:srgbClr val="002a6c"/>
              </a:solidFill>
              <a:latin typeface="Gill Sans MT"/>
            </a:endParaRPr>
          </a:p>
        </p:txBody>
      </p:sp>
      <p:sp>
        <p:nvSpPr>
          <p:cNvPr id="389" name=""/>
          <p:cNvSpPr txBox="1"/>
          <p:nvPr/>
        </p:nvSpPr>
        <p:spPr>
          <a:xfrm>
            <a:off x="228600" y="1553760"/>
            <a:ext cx="8686800" cy="4984920"/>
          </a:xfrm>
          <a:prstGeom prst="rect">
            <a:avLst/>
          </a:prstGeom>
          <a:noFill/>
          <a:ln w="0">
            <a:noFill/>
          </a:ln>
        </p:spPr>
        <p:txBody>
          <a:bodyPr anchor="t">
            <a:normAutofit fontScale="89000"/>
          </a:bodyPr>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le est la définition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sont les éléments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sont les intervenants en matière de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processus peuvent améliorer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est responsable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Comment la qualité des soins est-elle </a:t>
            </a:r>
            <a:r>
              <a:rPr b="0" lang="fr-FR" sz="3200" spc="-1" strike="noStrike">
                <a:solidFill>
                  <a:srgbClr val="808080"/>
                </a:solidFill>
                <a:latin typeface="Gill Sans MT"/>
              </a:rPr>
              <a:t>évaluée et mesurée </a:t>
            </a:r>
            <a:r>
              <a:rPr b="0" lang="en-US" sz="3200" spc="-1" strike="noStrike">
                <a:solidFill>
                  <a:srgbClr val="808080"/>
                </a:solidFill>
                <a:latin typeface="Gill Sans MT"/>
              </a:rPr>
              <a:t>? </a:t>
            </a: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D95F-4C91-46BD-9A7E-B57D09DFB9CB}"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2a6c"/>
                </a:solidFill>
                <a:latin typeface="Gill Sans MT"/>
              </a:rPr>
              <a:t>Quelle est la définition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D" sz="3200" spc="-1" strike="noStrike">
                <a:solidFill>
                  <a:srgbClr val="5f5f5f"/>
                </a:solidFill>
                <a:latin typeface="Gill Sans MT"/>
              </a:rPr>
              <a:t>« Faire ce qu’il faut, quand il le faut,  comme il le faut pour chaque personne, à chaque fois »</a:t>
            </a:r>
            <a:endParaRPr b="0" lang="en-US" sz="3200" spc="-1" strike="noStrike">
              <a:solidFill>
                <a:srgbClr val="5f5f5f"/>
              </a:solidFill>
              <a:latin typeface="Gill Sans MT"/>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a:t>
            </a:r>
            <a:endParaRPr b="0" lang="en-US" sz="1200" spc="-1" strike="noStrike">
              <a:solidFill>
                <a:srgbClr val="003399"/>
              </a:solidFill>
              <a:latin typeface="Arial"/>
            </a:endParaRPr>
          </a:p>
        </p:txBody>
      </p:sp>
      <p:sp>
        <p:nvSpPr>
          <p:cNvPr id="394" name="TextBox 1"/>
          <p:cNvSpPr/>
          <p:nvPr/>
        </p:nvSpPr>
        <p:spPr>
          <a:xfrm>
            <a:off x="457200" y="3722760"/>
            <a:ext cx="35449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M" sz="3800" spc="-1" strike="noStrike">
                <a:solidFill>
                  <a:srgbClr val="808080"/>
                </a:solidFill>
                <a:latin typeface="Gill Sans MT"/>
              </a:rPr>
              <a:t>Quels soins sont fournis aux clientes ?</a:t>
            </a:r>
            <a:endParaRPr b="0" lang="en-US" sz="3800" spc="-1" strike="noStrike">
              <a:solidFill>
                <a:srgbClr val="003399"/>
              </a:solidFill>
              <a:latin typeface="Arial"/>
            </a:endParaRPr>
          </a:p>
        </p:txBody>
      </p:sp>
      <p:sp>
        <p:nvSpPr>
          <p:cNvPr id="395" name="TextBox 5"/>
          <p:cNvSpPr/>
          <p:nvPr/>
        </p:nvSpPr>
        <p:spPr>
          <a:xfrm>
            <a:off x="4648320" y="3722760"/>
            <a:ext cx="387180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3800" spc="-1" strike="noStrike">
                <a:solidFill>
                  <a:srgbClr val="808080"/>
                </a:solidFill>
                <a:latin typeface="Gill Sans MT"/>
              </a:rPr>
              <a:t>Comment les soins sont-ils perçus par les clientes </a:t>
            </a:r>
            <a:r>
              <a:rPr b="0" lang="en-US" sz="3800" spc="-1" strike="noStrike">
                <a:solidFill>
                  <a:srgbClr val="808080"/>
                </a:solidFill>
                <a:latin typeface="Gill Sans MT"/>
              </a:rPr>
              <a:t>?</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u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Quels sont les éléments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3CC6-5D7A-43A1-A894-349EE2832DE9}"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00"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itute of Medicine, 2001</a:t>
            </a:r>
            <a:endParaRPr b="0" lang="en-US" sz="1800" spc="-1" strike="noStrike">
              <a:solidFill>
                <a:srgbClr val="003399"/>
              </a:solidFill>
              <a:latin typeface="Arial"/>
            </a:endParaRPr>
          </a:p>
        </p:txBody>
      </p:sp>
      <p:grpSp>
        <p:nvGrpSpPr>
          <p:cNvPr id="401" name="Oval 1"/>
          <p:cNvGrpSpPr/>
          <p:nvPr/>
        </p:nvGrpSpPr>
        <p:grpSpPr>
          <a:xfrm>
            <a:off x="3468600" y="853920"/>
            <a:ext cx="1663920" cy="1548000"/>
            <a:chOff x="3468600" y="853920"/>
            <a:chExt cx="1663920" cy="1548000"/>
          </a:xfrm>
        </p:grpSpPr>
        <p:pic>
          <p:nvPicPr>
            <p:cNvPr id="402" name="Oval 1" descr=""/>
            <p:cNvPicPr/>
            <p:nvPr/>
          </p:nvPicPr>
          <p:blipFill>
            <a:blip r:embed="rId1"/>
            <a:stretch/>
          </p:blipFill>
          <p:spPr>
            <a:xfrm>
              <a:off x="3468600" y="853920"/>
              <a:ext cx="1663920" cy="1548000"/>
            </a:xfrm>
            <a:prstGeom prst="rect">
              <a:avLst/>
            </a:prstGeom>
            <a:ln w="0">
              <a:noFill/>
            </a:ln>
          </p:spPr>
        </p:pic>
        <p:sp>
          <p:nvSpPr>
            <p:cNvPr id="403" name=""/>
            <p:cNvSpPr/>
            <p:nvPr/>
          </p:nvSpPr>
          <p:spPr>
            <a:xfrm>
              <a:off x="3722760" y="1090440"/>
              <a:ext cx="1158840" cy="107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Sécurité</a:t>
              </a:r>
              <a:endParaRPr b="0" lang="en-US" sz="1800" spc="-1" strike="noStrike">
                <a:solidFill>
                  <a:srgbClr val="003399"/>
                </a:solidFill>
                <a:latin typeface="Arial"/>
              </a:endParaRPr>
            </a:p>
          </p:txBody>
        </p:sp>
      </p:grpSp>
      <p:grpSp>
        <p:nvGrpSpPr>
          <p:cNvPr id="404" name="Oval 6"/>
          <p:cNvGrpSpPr/>
          <p:nvPr/>
        </p:nvGrpSpPr>
        <p:grpSpPr>
          <a:xfrm>
            <a:off x="1663560" y="1695600"/>
            <a:ext cx="1629000" cy="1547640"/>
            <a:chOff x="1663560" y="1695600"/>
            <a:chExt cx="1629000" cy="1547640"/>
          </a:xfrm>
        </p:grpSpPr>
        <p:pic>
          <p:nvPicPr>
            <p:cNvPr id="405" name="Oval 6" descr=""/>
            <p:cNvPicPr/>
            <p:nvPr/>
          </p:nvPicPr>
          <p:blipFill>
            <a:blip r:embed="rId2"/>
            <a:stretch/>
          </p:blipFill>
          <p:spPr>
            <a:xfrm>
              <a:off x="1663560" y="1695600"/>
              <a:ext cx="1629000" cy="1547640"/>
            </a:xfrm>
            <a:prstGeom prst="rect">
              <a:avLst/>
            </a:prstGeom>
            <a:ln w="0">
              <a:noFill/>
            </a:ln>
          </p:spPr>
        </p:pic>
        <p:sp>
          <p:nvSpPr>
            <p:cNvPr id="406" name=""/>
            <p:cNvSpPr/>
            <p:nvPr/>
          </p:nvSpPr>
          <p:spPr>
            <a:xfrm>
              <a:off x="1911240" y="1932120"/>
              <a:ext cx="1131840" cy="10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xés sur la cliente</a:t>
              </a:r>
              <a:endParaRPr b="0" lang="en-US" sz="1800" spc="-1" strike="noStrike">
                <a:solidFill>
                  <a:srgbClr val="003399"/>
                </a:solidFill>
                <a:latin typeface="Arial"/>
              </a:endParaRPr>
            </a:p>
          </p:txBody>
        </p:sp>
      </p:grpSp>
      <p:grpSp>
        <p:nvGrpSpPr>
          <p:cNvPr id="407" name="Oval 7"/>
          <p:cNvGrpSpPr/>
          <p:nvPr/>
        </p:nvGrpSpPr>
        <p:grpSpPr>
          <a:xfrm>
            <a:off x="2730600" y="1932120"/>
            <a:ext cx="3225600" cy="3262320"/>
            <a:chOff x="2730600" y="1932120"/>
            <a:chExt cx="3225600" cy="3262320"/>
          </a:xfrm>
        </p:grpSpPr>
        <p:pic>
          <p:nvPicPr>
            <p:cNvPr id="408" name="Oval 7" descr=""/>
            <p:cNvPicPr/>
            <p:nvPr/>
          </p:nvPicPr>
          <p:blipFill>
            <a:blip r:embed="rId3"/>
            <a:stretch/>
          </p:blipFill>
          <p:spPr>
            <a:xfrm>
              <a:off x="2730600" y="1932120"/>
              <a:ext cx="3225600" cy="3262320"/>
            </a:xfrm>
            <a:prstGeom prst="rect">
              <a:avLst/>
            </a:prstGeom>
            <a:ln w="0">
              <a:noFill/>
            </a:ln>
          </p:spPr>
        </p:pic>
        <p:sp>
          <p:nvSpPr>
            <p:cNvPr id="409" name=""/>
            <p:cNvSpPr/>
            <p:nvPr/>
          </p:nvSpPr>
          <p:spPr>
            <a:xfrm>
              <a:off x="3211560" y="2419200"/>
              <a:ext cx="226368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Eléments des soins de qualité (Institut de médecine, 2001)</a:t>
              </a:r>
              <a:endParaRPr b="0" lang="en-US" sz="2400" spc="-1" strike="noStrike">
                <a:solidFill>
                  <a:srgbClr val="003399"/>
                </a:solidFill>
                <a:latin typeface="Arial"/>
              </a:endParaRPr>
            </a:p>
          </p:txBody>
        </p:sp>
      </p:grpSp>
      <p:grpSp>
        <p:nvGrpSpPr>
          <p:cNvPr id="410" name="Oval 8"/>
          <p:cNvGrpSpPr/>
          <p:nvPr/>
        </p:nvGrpSpPr>
        <p:grpSpPr>
          <a:xfrm>
            <a:off x="3517920" y="4761000"/>
            <a:ext cx="1566720" cy="1609560"/>
            <a:chOff x="3517920" y="4761000"/>
            <a:chExt cx="1566720" cy="1609560"/>
          </a:xfrm>
        </p:grpSpPr>
        <p:pic>
          <p:nvPicPr>
            <p:cNvPr id="411" name="Oval 8" descr=""/>
            <p:cNvPicPr/>
            <p:nvPr/>
          </p:nvPicPr>
          <p:blipFill>
            <a:blip r:embed="rId4"/>
            <a:stretch/>
          </p:blipFill>
          <p:spPr>
            <a:xfrm>
              <a:off x="3517920" y="4761000"/>
              <a:ext cx="1566720" cy="1609560"/>
            </a:xfrm>
            <a:prstGeom prst="rect">
              <a:avLst/>
            </a:prstGeom>
            <a:ln w="0">
              <a:noFill/>
            </a:ln>
          </p:spPr>
        </p:pic>
        <p:sp>
          <p:nvSpPr>
            <p:cNvPr id="412" name=""/>
            <p:cNvSpPr/>
            <p:nvPr/>
          </p:nvSpPr>
          <p:spPr>
            <a:xfrm>
              <a:off x="3755880" y="5005440"/>
              <a:ext cx="1090800" cy="11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quité</a:t>
              </a:r>
              <a:endParaRPr b="0" lang="en-US" sz="1800" spc="-1" strike="noStrike">
                <a:solidFill>
                  <a:srgbClr val="003399"/>
                </a:solidFill>
                <a:latin typeface="Arial"/>
              </a:endParaRPr>
            </a:p>
          </p:txBody>
        </p:sp>
      </p:grpSp>
      <p:grpSp>
        <p:nvGrpSpPr>
          <p:cNvPr id="413" name="Oval 9"/>
          <p:cNvGrpSpPr/>
          <p:nvPr/>
        </p:nvGrpSpPr>
        <p:grpSpPr>
          <a:xfrm>
            <a:off x="5559480" y="3627360"/>
            <a:ext cx="1560600" cy="1639800"/>
            <a:chOff x="5559480" y="3627360"/>
            <a:chExt cx="1560600" cy="1639800"/>
          </a:xfrm>
        </p:grpSpPr>
        <p:pic>
          <p:nvPicPr>
            <p:cNvPr id="414" name="Oval 9" descr=""/>
            <p:cNvPicPr/>
            <p:nvPr/>
          </p:nvPicPr>
          <p:blipFill>
            <a:blip r:embed="rId5"/>
            <a:stretch/>
          </p:blipFill>
          <p:spPr>
            <a:xfrm>
              <a:off x="5559480" y="3627360"/>
              <a:ext cx="1560600" cy="1639800"/>
            </a:xfrm>
            <a:prstGeom prst="rect">
              <a:avLst/>
            </a:prstGeom>
            <a:ln w="0">
              <a:noFill/>
            </a:ln>
          </p:spPr>
        </p:pic>
        <p:sp>
          <p:nvSpPr>
            <p:cNvPr id="415" name=""/>
            <p:cNvSpPr/>
            <p:nvPr/>
          </p:nvSpPr>
          <p:spPr>
            <a:xfrm>
              <a:off x="5796000" y="3878280"/>
              <a:ext cx="1089000" cy="11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ience</a:t>
              </a:r>
              <a:endParaRPr b="0" lang="en-US" sz="1800" spc="-1" strike="noStrike">
                <a:solidFill>
                  <a:srgbClr val="003399"/>
                </a:solidFill>
                <a:latin typeface="Arial"/>
              </a:endParaRPr>
            </a:p>
          </p:txBody>
        </p:sp>
      </p:grpSp>
      <p:grpSp>
        <p:nvGrpSpPr>
          <p:cNvPr id="416" name="Oval 10"/>
          <p:cNvGrpSpPr/>
          <p:nvPr/>
        </p:nvGrpSpPr>
        <p:grpSpPr>
          <a:xfrm>
            <a:off x="1579680" y="3786120"/>
            <a:ext cx="1699920" cy="1719360"/>
            <a:chOff x="1579680" y="3786120"/>
            <a:chExt cx="1699920" cy="1719360"/>
          </a:xfrm>
        </p:grpSpPr>
        <p:pic>
          <p:nvPicPr>
            <p:cNvPr id="417" name="Oval 10" descr=""/>
            <p:cNvPicPr/>
            <p:nvPr/>
          </p:nvPicPr>
          <p:blipFill>
            <a:blip r:embed="rId6"/>
            <a:stretch/>
          </p:blipFill>
          <p:spPr>
            <a:xfrm>
              <a:off x="1579680" y="3786120"/>
              <a:ext cx="1699920" cy="1719360"/>
            </a:xfrm>
            <a:prstGeom prst="rect">
              <a:avLst/>
            </a:prstGeom>
            <a:ln w="0">
              <a:noFill/>
            </a:ln>
          </p:spPr>
        </p:pic>
        <p:sp>
          <p:nvSpPr>
            <p:cNvPr id="418" name=""/>
            <p:cNvSpPr/>
            <p:nvPr/>
          </p:nvSpPr>
          <p:spPr>
            <a:xfrm>
              <a:off x="1835280" y="4044960"/>
              <a:ext cx="118404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n temps opportun</a:t>
              </a:r>
              <a:endParaRPr b="0" lang="en-US" sz="1800" spc="-1" strike="noStrike">
                <a:solidFill>
                  <a:srgbClr val="003399"/>
                </a:solidFill>
                <a:latin typeface="Arial"/>
              </a:endParaRPr>
            </a:p>
          </p:txBody>
        </p:sp>
      </p:grpSp>
      <p:grpSp>
        <p:nvGrpSpPr>
          <p:cNvPr id="419" name="Oval 11"/>
          <p:cNvGrpSpPr/>
          <p:nvPr/>
        </p:nvGrpSpPr>
        <p:grpSpPr>
          <a:xfrm>
            <a:off x="5273640" y="1719360"/>
            <a:ext cx="1603440" cy="1493640"/>
            <a:chOff x="5273640" y="1719360"/>
            <a:chExt cx="1603440" cy="1493640"/>
          </a:xfrm>
        </p:grpSpPr>
        <p:pic>
          <p:nvPicPr>
            <p:cNvPr id="420" name="Oval 11" descr=""/>
            <p:cNvPicPr/>
            <p:nvPr/>
          </p:nvPicPr>
          <p:blipFill>
            <a:blip r:embed="rId7"/>
            <a:stretch/>
          </p:blipFill>
          <p:spPr>
            <a:xfrm>
              <a:off x="5273640" y="1719360"/>
              <a:ext cx="1603440" cy="1493640"/>
            </a:xfrm>
            <a:prstGeom prst="rect">
              <a:avLst/>
            </a:prstGeom>
            <a:ln w="0">
              <a:noFill/>
            </a:ln>
          </p:spPr>
        </p:pic>
        <p:sp>
          <p:nvSpPr>
            <p:cNvPr id="421" name=""/>
            <p:cNvSpPr/>
            <p:nvPr/>
          </p:nvSpPr>
          <p:spPr>
            <a:xfrm>
              <a:off x="5514840" y="1947960"/>
              <a:ext cx="1119240" cy="103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acité</a:t>
              </a:r>
              <a:endParaRPr b="0" lang="en-US" sz="18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2a6c"/>
                </a:solidFill>
                <a:latin typeface="Gill Sans MT"/>
              </a:rPr>
              <a:t>Qui sont les intervenants en matière de  qualité des soins</a:t>
            </a:r>
            <a:r>
              <a:rPr b="0" lang="fr-FR" sz="3200" spc="-1" strike="noStrike">
                <a:solidFill>
                  <a:srgbClr val="002a6c"/>
                </a:solidFill>
                <a:latin typeface="Gill Sans MT"/>
              </a:rPr>
              <a:t>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D288-1DC0-4235-AF7D-E32DFC5E4075}"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24" name="TextBox 4"/>
          <p:cNvSpPr/>
          <p:nvPr/>
        </p:nvSpPr>
        <p:spPr>
          <a:xfrm>
            <a:off x="380880" y="5127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Pourquoi la qualité des soins est-elle importante pour eux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25" name="TextBox 4"/>
          <p:cNvSpPr/>
          <p:nvPr/>
        </p:nvSpPr>
        <p:spPr>
          <a:xfrm>
            <a:off x="380880" y="4584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Qu’est-ce qui est important pour eux ?</a:t>
            </a:r>
            <a:endParaRPr b="0" lang="en-US" sz="3600" spc="-1" strike="noStrike">
              <a:solidFill>
                <a:srgbClr val="003399"/>
              </a:solidFill>
              <a:latin typeface="Arial"/>
            </a:endParaRPr>
          </a:p>
        </p:txBody>
      </p:sp>
      <p:sp>
        <p:nvSpPr>
          <p:cNvPr id="426" name="TextBox 1"/>
          <p:cNvSpPr/>
          <p:nvPr/>
        </p:nvSpPr>
        <p:spPr>
          <a:xfrm>
            <a:off x="762120" y="1249200"/>
            <a:ext cx="18856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27" name="TextBox 5"/>
          <p:cNvSpPr/>
          <p:nvPr/>
        </p:nvSpPr>
        <p:spPr>
          <a:xfrm>
            <a:off x="1152360" y="1790640"/>
            <a:ext cx="45388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communauté</a:t>
            </a:r>
            <a:endParaRPr b="0" lang="en-US" sz="3800" spc="-1" strike="noStrike">
              <a:solidFill>
                <a:srgbClr val="003399"/>
              </a:solidFill>
              <a:latin typeface="Arial"/>
            </a:endParaRPr>
          </a:p>
        </p:txBody>
      </p:sp>
      <p:sp>
        <p:nvSpPr>
          <p:cNvPr id="428" name="TextBox 6"/>
          <p:cNvSpPr/>
          <p:nvPr/>
        </p:nvSpPr>
        <p:spPr>
          <a:xfrm>
            <a:off x="4152960" y="2919240"/>
            <a:ext cx="2581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endParaRPr b="0" lang="en-US" sz="3800" spc="-1" strike="noStrike">
              <a:solidFill>
                <a:srgbClr val="003399"/>
              </a:solidFill>
              <a:latin typeface="Arial"/>
            </a:endParaRPr>
          </a:p>
        </p:txBody>
      </p:sp>
      <p:sp>
        <p:nvSpPr>
          <p:cNvPr id="429" name="TextBox 7"/>
          <p:cNvSpPr/>
          <p:nvPr/>
        </p:nvSpPr>
        <p:spPr>
          <a:xfrm>
            <a:off x="5257800" y="3514680"/>
            <a:ext cx="32004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Quels processus peuvent améliorer la qualité des soins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C11F-A33C-4121-A31B-D4AB9AD4565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3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l est le problème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voulez-vous changer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pouvez-vous faire pour le changer </a:t>
            </a:r>
            <a:r>
              <a:rPr b="0" lang="fr-FR" sz="2800" spc="-1" strike="noStrike">
                <a:solidFill>
                  <a:srgbClr val="7f7f7f"/>
                </a:solidFill>
                <a:latin typeface="Gill Sans MT"/>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emple :  Amélioration de la qualité</a:t>
            </a:r>
            <a:endParaRPr b="0" lang="en-US" sz="3600" spc="-1" strike="noStrike">
              <a:solidFill>
                <a:srgbClr val="002a6c"/>
              </a:solidFill>
              <a:latin typeface="Gill Sans MT"/>
            </a:endParaRPr>
          </a:p>
        </p:txBody>
      </p:sp>
      <p:sp>
        <p:nvSpPr>
          <p:cNvPr id="43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base</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Plan d'action</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suivi</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ilan des progrès</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35" name="Picture 11" descr="Image de amélioration de la qualité"/>
          <p:cNvPicPr/>
          <p:nvPr/>
        </p:nvPicPr>
        <p:blipFill>
          <a:blip r:embed="rId1"/>
          <a:stretch/>
        </p:blipFill>
        <p:spPr>
          <a:xfrm>
            <a:off x="4800600" y="1523880"/>
            <a:ext cx="3705120" cy="4267440"/>
          </a:xfrm>
          <a:prstGeom prst="rect">
            <a:avLst/>
          </a:prstGeom>
          <a:ln w="32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2280"/>
            <a:ext cx="91440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a6c"/>
                </a:solidFill>
                <a:latin typeface="Gill Sans MT"/>
              </a:rPr>
              <a:t>Exemple: outil d'évaluation de la prévention des infections</a:t>
            </a:r>
            <a:endParaRPr b="0" lang="en-US" sz="2800" spc="-1" strike="noStrike">
              <a:solidFill>
                <a:srgbClr val="002a6c"/>
              </a:solidFill>
              <a:latin typeface="Gill Sans MT"/>
            </a:endParaRPr>
          </a:p>
        </p:txBody>
      </p:sp>
      <p:graphicFrame>
        <p:nvGraphicFramePr>
          <p:cNvPr id="437" name=""/>
          <p:cNvGraphicFramePr/>
          <p:nvPr/>
        </p:nvGraphicFramePr>
        <p:xfrm>
          <a:off x="358920" y="855720"/>
          <a:ext cx="8458200" cy="5897520"/>
        </p:xfrm>
        <a:graphic>
          <a:graphicData uri="http://schemas.openxmlformats.org/drawingml/2006/table">
            <a:tbl>
              <a:tblPr/>
              <a:tblGrid>
                <a:gridCol w="1295280"/>
                <a:gridCol w="5091120"/>
                <a:gridCol w="533520"/>
                <a:gridCol w="1538280"/>
              </a:tblGrid>
              <a:tr h="62892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Standard</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de performance</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Critères de vérification</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O, N, NA</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Remarques</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a:t>
                      </a:r>
                      <a:r>
                        <a:rPr b="0" lang="fr-FR" sz="1400" spc="-1" strike="noStrike">
                          <a:solidFill>
                            <a:srgbClr val="4d4d4d"/>
                          </a:solidFill>
                          <a:latin typeface="Gill Sans MT"/>
                          <a:ea typeface="Arial"/>
                        </a:rPr>
                        <a:t>Des fournitures propres sont disponibles sur le site et sont prêtes à l'emploi</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Vérifier si :</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Gill Sans MT"/>
                          <a:ea typeface="Arial"/>
                        </a:rPr>
                        <a:t>1</a:t>
                      </a:r>
                      <a:r>
                        <a:rPr b="0" i="1" lang="fr-BE" sz="1400" spc="-1" strike="noStrike">
                          <a:solidFill>
                            <a:srgbClr val="4d4d4d"/>
                          </a:solidFill>
                          <a:latin typeface="Gill Sans MT"/>
                          <a:ea typeface="Arial"/>
                        </a:rPr>
                        <a:t>. Pas de feutres et de ruban adhésif pour étiqueter les conteneurs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2. Pas de solution de chlore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Ajouter au plan d'action de l'établissement </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antiseptiques sont préparés dans de petits récipients réutilisables à usage quotidie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soigneusement lavés à l'eau et au savon, rincés à l'eau propre et séchés avant de les rempli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étiquetés avec la date chaque fois qu'ils sont rempli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compresse ou le coton est stocké dans des récipients secs sans antiseptiqu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instruments sont stockés dans des récipients secs sans antiseptique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Un récipient en plastique propre avec une solution de chlore à 0,5% est disponible pour rincer les seringues et les aiguilles avant de les jeter dans un récipient résistant à la perforatio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solution dans ce conteneur est changée tous les jours ou lorsqu'elle est sal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1574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Tous les conteneurs mentionnés ci-dessus sont prêts à être utilisés dans :</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xamen</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 travail et d’accouchement</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Aires du postpartum, de la pharmacie ou du laboratoir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8" name="Rectangle 129"/>
          <p:cNvSpPr/>
          <p:nvPr/>
        </p:nvSpPr>
        <p:spPr>
          <a:xfrm>
            <a:off x="343080" y="62712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Etablissement : </a:t>
            </a:r>
            <a:r>
              <a:rPr b="0" lang="en-US" sz="1600" spc="-1" strike="noStrike">
                <a:solidFill>
                  <a:srgbClr val="002a6c"/>
                </a:solidFill>
                <a:latin typeface="Gill Sans MT"/>
              </a:rPr>
              <a:t>	</a:t>
            </a:r>
            <a:r>
              <a:rPr b="0" lang="en-US" sz="1600" spc="-1" strike="noStrike">
                <a:solidFill>
                  <a:srgbClr val="002a6c"/>
                </a:solidFill>
                <a:latin typeface="Gill Sans MT"/>
              </a:rPr>
              <a:t>                    Evaluateur : </a:t>
            </a:r>
            <a:r>
              <a:rPr b="0" lang="en-US" sz="1600" spc="-1" strike="noStrike">
                <a:solidFill>
                  <a:srgbClr val="002a6c"/>
                </a:solidFill>
                <a:latin typeface="Gill Sans MT"/>
              </a:rPr>
              <a:t>	</a:t>
            </a:r>
            <a:r>
              <a:rPr b="0" lang="en-US" sz="1600" spc="-1" strike="noStrike">
                <a:solidFill>
                  <a:srgbClr val="002a6c"/>
                </a:solidFill>
                <a:latin typeface="Gill Sans MT"/>
              </a:rPr>
              <a:t>                               Date :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Plan d’action pour la prévention des infections</a:t>
            </a:r>
            <a:endParaRPr b="0" lang="en-US" sz="3300" spc="-1" strike="noStrike">
              <a:solidFill>
                <a:srgbClr val="002a6c"/>
              </a:solidFill>
              <a:latin typeface="Gill Sans MT"/>
            </a:endParaRPr>
          </a:p>
        </p:txBody>
      </p:sp>
      <p:pic>
        <p:nvPicPr>
          <p:cNvPr id="440" name="Group 71" descr="Plan d’action pour la prévention des infections"/>
          <p:cNvPicPr/>
          <p:nvPr/>
        </p:nvPicPr>
        <p:blipFill>
          <a:blip r:embed="rId1"/>
          <a:stretch/>
        </p:blipFill>
        <p:spPr>
          <a:xfrm>
            <a:off x="195120" y="969840"/>
            <a:ext cx="8736120" cy="502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Maternal and Child Survival Program</dc:creator>
  <dc:description/>
  <cp:keywords>MCSP USAID MLDA</cp:keywords>
  <dc:language>en-US</dc:language>
  <cp:lastModifiedBy>Katherine Bisulca</cp:lastModifiedBy>
  <cp:lastPrinted>2018-04-13T13:02:36Z</cp:lastPrinted>
  <dcterms:modified xsi:type="dcterms:W3CDTF">2018-04-13T13:02:49Z</dcterms:modified>
  <cp:revision>924</cp:revision>
  <dc:subject/>
  <dc:title>Présentation 4-1 : Qualité des soins dans les services de santé</dc:title>
</cp:coreProperties>
</file>