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0B4622-509B-4748-BBFE-B75C0E2D0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5EF1BF7-1585-4711-825F-3671EA127B5C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Ambas fotos cuentan con licencias de Creative Comm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oto 1: https://www.flickr.com/photos/spavaai/136255565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oto 2: https://www.flickr.com/photos/unep_dc/847541408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6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242F02E-CB91-49F2-A7BE-1E1F914AADAA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Imágenes de la Guía para capacitadores del Paquete de recursos de aprendizaje (LRP) sobre Prevención de infecciones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) de Jhpiego: http://reprolineplus.org/system/files/resources/ip_trainer_0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7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DF188E7-4E46-4FC1-9819-CBB3368D286E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Shabana Zaeem, PRIDE Project, USAID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8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DB9C262-DA19-427B-997B-D8DA234FADBC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Shabana Zaeem, PRIDE Project, USAID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68871C3-BB54-45D5-B533-CADD669C84B5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Jhpiego IP manual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0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5674EB0-39F8-45D5-BE44-1F7E988671FD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Jhpieg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ual </a:t>
            </a: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1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21913D3-B5E6-4A8C-AD49-7E685E15C916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2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546B3FA-C360-4D58-AE74-90C7B900AAE8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3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64A30B7-9D1E-4E7E-AEE3-7200474FF605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0E75-16E7-43EF-A954-5AA87319E2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B370-58C7-4165-9BF7-B01B6B71C8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A93E-D636-465E-985C-D62E0EA591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3140-EAE8-4ADE-814A-7FF913A980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E131-DA6F-4D30-B581-5EE7E65E23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F1AA-CFE1-4126-89C2-CDFCAD84B5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8A0F-0042-4155-8FF8-B768C5011E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9D3D-EE3C-4576-9CEC-B881007EE2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B7D3-3D60-4002-A767-59A43274F1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C755-15EA-4988-9E02-1E795FF546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5E5A-0903-48DD-8773-2B58188B1F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DDC8-DB39-4CD2-8E08-748493ADBE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9dbfe5"/>
              </a:solidFill>
              <a:latin typeface="Calibri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2141640" y="762120"/>
            <a:ext cx="4860360" cy="752040"/>
            <a:chOff x="2141640" y="762120"/>
            <a:chExt cx="4860360" cy="752040"/>
          </a:xfrm>
        </p:grpSpPr>
        <p:pic>
          <p:nvPicPr>
            <p:cNvPr id="4" name="Picture 22" descr=""/>
            <p:cNvPicPr/>
            <p:nvPr/>
          </p:nvPicPr>
          <p:blipFill>
            <a:blip r:embed="rId2"/>
            <a:srcRect l="0" t="0" r="63464" b="0"/>
            <a:stretch/>
          </p:blipFill>
          <p:spPr>
            <a:xfrm>
              <a:off x="2141640" y="762120"/>
              <a:ext cx="2662920" cy="75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1" descr=""/>
            <p:cNvPicPr/>
            <p:nvPr/>
          </p:nvPicPr>
          <p:blipFill>
            <a:blip r:embed="rId3"/>
            <a:stretch/>
          </p:blipFill>
          <p:spPr>
            <a:xfrm>
              <a:off x="5074920" y="807840"/>
              <a:ext cx="1927080" cy="70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040" cy="2666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2a6c"/>
                </a:solidFill>
                <a:latin typeface="Gill Sans MT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5f5f5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5f5f5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9dbfe5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500" spc="-1" strike="noStrike">
                <a:solidFill>
                  <a:srgbClr val="002a6c"/>
                </a:solidFill>
                <a:latin typeface="Gill Sans MT"/>
              </a:rPr>
              <a:t>Click to edit Master title styl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5f5f5f"/>
                </a:solidFill>
                <a:latin typeface="Gill Sans MT"/>
              </a:rPr>
              <a:t>Click to edit Master text styles</a:t>
            </a: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5f5f5f"/>
                </a:solidFill>
                <a:latin typeface="Gill Sans MT"/>
              </a:rPr>
              <a:t>Second level</a:t>
            </a:r>
            <a:endParaRPr b="0" lang="en-US" sz="2800" spc="-1" strike="noStrike">
              <a:solidFill>
                <a:srgbClr val="5f5f5f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5f5f5f"/>
                </a:solidFill>
                <a:latin typeface="Gill Sans MT"/>
              </a:rPr>
              <a:t>Third level</a:t>
            </a:r>
            <a:endParaRPr b="0" lang="en-US" sz="2400" spc="-1" strike="noStrike">
              <a:solidFill>
                <a:srgbClr val="5f5f5f"/>
              </a:solidFill>
              <a:latin typeface="Gill Sans MT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ourth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ifth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2a6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65B9A6-D4F4-4C85-83E0-D0565E067DB2}" type="slidenum">
              <a:rPr b="0" lang="en-US" sz="1100" spc="-1" strike="noStrike">
                <a:solidFill>
                  <a:srgbClr val="002a6c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9dbfe5"/>
              </a:solidFill>
              <a:latin typeface="Calibri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93720" y="1832040"/>
            <a:ext cx="769572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400" spc="-1" strike="noStrike">
                <a:solidFill>
                  <a:srgbClr val="002a6c"/>
                </a:solidFill>
                <a:latin typeface="Gill Sans MT"/>
              </a:rPr>
              <a:t>For more information, please vis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400" spc="-1" strike="noStrike">
                <a:solidFill>
                  <a:srgbClr val="002a6c"/>
                </a:solidFill>
                <a:latin typeface="Gill Sans MT"/>
              </a:rPr>
              <a:t>www.mcsprogram.or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693720" y="3733920"/>
            <a:ext cx="769572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This presentation was made possible by the generous support of the American people through the United States Agency for International Development (USAID), under the terms of the Cooperative Agreement AID-OAA-A-14-00028.  The contents are the responsibility of the authors and do not necessarily reflect the views of USAID or the United States Govern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960480" y="6019920"/>
            <a:ext cx="7162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 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facebook.com/MCSPglobal 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	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	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	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twitter.com/MCSP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5f5f5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5f5f5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643480"/>
            <a:ext cx="7772040" cy="2666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Actividad 5-2: Imágenes: </a:t>
            </a:r>
            <a:br>
              <a:rPr sz="4000"/>
            </a:b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¿Qué está</a:t>
            </a:r>
            <a:r>
              <a:rPr b="0" lang="es-ES" sz="4000" spc="-1" strike="noStrike">
                <a:solidFill>
                  <a:srgbClr val="002a6c"/>
                </a:solidFill>
                <a:latin typeface="Gill Sans MT"/>
              </a:rPr>
              <a:t> correcto</a:t>
            </a: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 o</a:t>
            </a:r>
            <a:r>
              <a:rPr b="0" lang="es-ES" sz="4000" spc="-1" strike="noStrike">
                <a:solidFill>
                  <a:srgbClr val="002a6c"/>
                </a:solidFill>
                <a:latin typeface="Gill Sans MT"/>
              </a:rPr>
              <a:t> incorrecto</a:t>
            </a: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 en</a:t>
            </a:r>
            <a:r>
              <a:rPr b="0" lang="es-ES" sz="4000" spc="-1" strike="noStrike">
                <a:solidFill>
                  <a:srgbClr val="002a6c"/>
                </a:solidFill>
                <a:latin typeface="Gill Sans MT"/>
              </a:rPr>
              <a:t> </a:t>
            </a: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estas imágen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2120" y="5334120"/>
            <a:ext cx="777204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1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" sz="2400" spc="-1" strike="noStrike">
                <a:solidFill>
                  <a:srgbClr val="808080"/>
                </a:solidFill>
                <a:latin typeface="Gill Sans MT"/>
              </a:rPr>
              <a:t>Módulo 5: Prevención de infecciones para </a:t>
            </a:r>
            <a:r>
              <a:rPr b="0" lang="es-ES" sz="2400" spc="-1" strike="noStrike">
                <a:solidFill>
                  <a:srgbClr val="808080"/>
                </a:solidFill>
                <a:latin typeface="Gill Sans MT"/>
              </a:rPr>
              <a:t>M</a:t>
            </a:r>
            <a:r>
              <a:rPr b="0" lang="es" sz="2400" spc="-1" strike="noStrike">
                <a:solidFill>
                  <a:srgbClr val="808080"/>
                </a:solidFill>
                <a:latin typeface="Gill Sans MT"/>
              </a:rPr>
              <a:t>étodos Reversibles de Larg</a:t>
            </a:r>
            <a:r>
              <a:rPr b="0" lang="es-ES" sz="2400" spc="-1" strike="noStrike">
                <a:solidFill>
                  <a:srgbClr val="808080"/>
                </a:solidFill>
                <a:latin typeface="Gill Sans MT"/>
              </a:rPr>
              <a:t>a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D00028_"/>
          <p:cNvPicPr/>
          <p:nvPr/>
        </p:nvPicPr>
        <p:blipFill>
          <a:blip r:embed="rId1"/>
          <a:stretch/>
        </p:blipFill>
        <p:spPr>
          <a:xfrm>
            <a:off x="3933720" y="1756440"/>
            <a:ext cx="14284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5157000" cy="3428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15592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647960" cy="347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6479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ospital-19"/>
          <p:cNvPicPr/>
          <p:nvPr/>
        </p:nvPicPr>
        <p:blipFill>
          <a:blip r:embed="rId1"/>
          <a:srcRect l="17574" t="13071" r="0" b="0"/>
          <a:stretch/>
        </p:blipFill>
        <p:spPr>
          <a:xfrm>
            <a:off x="380880" y="380880"/>
            <a:ext cx="4288320" cy="3040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ospital-14"/>
          <p:cNvPicPr/>
          <p:nvPr/>
        </p:nvPicPr>
        <p:blipFill>
          <a:blip r:embed="rId2"/>
          <a:srcRect l="10556" t="0" r="0" b="11709"/>
          <a:stretch/>
        </p:blipFill>
        <p:spPr>
          <a:xfrm>
            <a:off x="3809880" y="2819520"/>
            <a:ext cx="4669560" cy="31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Content Placeholder 9" descr="DSC01025.JPG"/>
          <p:cNvPicPr/>
          <p:nvPr/>
        </p:nvPicPr>
        <p:blipFill>
          <a:blip r:embed="rId1"/>
          <a:stretch/>
        </p:blipFill>
        <p:spPr>
          <a:xfrm>
            <a:off x="762120" y="1181160"/>
            <a:ext cx="3420000" cy="4647960"/>
          </a:xfrm>
          <a:prstGeom prst="rect">
            <a:avLst/>
          </a:prstGeom>
          <a:ln w="0">
            <a:noFill/>
          </a:ln>
        </p:spPr>
      </p:pic>
      <p:pic>
        <p:nvPicPr>
          <p:cNvPr id="144" name="Content Placeholder 14" descr="DSC00971.JPG"/>
          <p:cNvPicPr/>
          <p:nvPr/>
        </p:nvPicPr>
        <p:blipFill>
          <a:blip r:embed="rId2"/>
          <a:stretch/>
        </p:blipFill>
        <p:spPr>
          <a:xfrm>
            <a:off x="4579920" y="879840"/>
            <a:ext cx="3649320" cy="2541240"/>
          </a:xfrm>
          <a:prstGeom prst="rect">
            <a:avLst/>
          </a:prstGeom>
          <a:ln w="0">
            <a:noFill/>
          </a:ln>
        </p:spPr>
      </p:pic>
      <p:pic>
        <p:nvPicPr>
          <p:cNvPr id="145" name="Content Placeholder 18" descr="DSC00332.JPG"/>
          <p:cNvPicPr/>
          <p:nvPr/>
        </p:nvPicPr>
        <p:blipFill>
          <a:blip r:embed="rId3"/>
          <a:stretch/>
        </p:blipFill>
        <p:spPr>
          <a:xfrm>
            <a:off x="4572000" y="3505320"/>
            <a:ext cx="3656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needlebox"/>
          <p:cNvPicPr/>
          <p:nvPr/>
        </p:nvPicPr>
        <p:blipFill>
          <a:blip r:embed="rId1"/>
          <a:stretch/>
        </p:blipFill>
        <p:spPr>
          <a:xfrm>
            <a:off x="292320" y="326160"/>
            <a:ext cx="3723840" cy="3481200"/>
          </a:xfrm>
          <a:prstGeom prst="rect">
            <a:avLst/>
          </a:prstGeom>
          <a:ln w="12700">
            <a:solidFill>
              <a:srgbClr val="ffffff"/>
            </a:solidFill>
            <a:miter/>
          </a:ln>
        </p:spPr>
      </p:pic>
      <p:pic>
        <p:nvPicPr>
          <p:cNvPr id="147" name="Picture 2" descr="https://upload.wikimedia.org/wikipedia/commons/3/34/Sharps_Container.jpg"/>
          <p:cNvPicPr/>
          <p:nvPr/>
        </p:nvPicPr>
        <p:blipFill>
          <a:blip r:embed="rId2"/>
          <a:stretch/>
        </p:blipFill>
        <p:spPr>
          <a:xfrm>
            <a:off x="4648320" y="326160"/>
            <a:ext cx="3504960" cy="32043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pic>
        <p:nvPicPr>
          <p:cNvPr id="148" name="Picture 4" descr="HandsFree"/>
          <p:cNvPicPr/>
          <p:nvPr/>
        </p:nvPicPr>
        <p:blipFill>
          <a:blip r:embed="rId3"/>
          <a:stretch/>
        </p:blipFill>
        <p:spPr>
          <a:xfrm>
            <a:off x="292320" y="3938760"/>
            <a:ext cx="3642120" cy="2538000"/>
          </a:xfrm>
          <a:prstGeom prst="rect">
            <a:avLst/>
          </a:prstGeom>
          <a:ln w="12700">
            <a:solidFill>
              <a:srgbClr val="ffffff"/>
            </a:solidFill>
            <a:miter/>
          </a:ln>
        </p:spPr>
      </p:pic>
      <p:pic>
        <p:nvPicPr>
          <p:cNvPr id="149" name="Picture 10" descr="scrub_sharps"/>
          <p:cNvPicPr/>
          <p:nvPr/>
        </p:nvPicPr>
        <p:blipFill>
          <a:blip r:embed="rId4"/>
          <a:stretch/>
        </p:blipFill>
        <p:spPr>
          <a:xfrm>
            <a:off x="4648320" y="3786120"/>
            <a:ext cx="3504960" cy="2690280"/>
          </a:xfrm>
          <a:prstGeom prst="rect">
            <a:avLst/>
          </a:prstGeom>
          <a:ln w="127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026" descr="Photo5"/>
          <p:cNvPicPr/>
          <p:nvPr/>
        </p:nvPicPr>
        <p:blipFill>
          <a:blip r:embed="rId1"/>
          <a:stretch/>
        </p:blipFill>
        <p:spPr>
          <a:xfrm>
            <a:off x="533520" y="420840"/>
            <a:ext cx="5067000" cy="3494520"/>
          </a:xfrm>
          <a:prstGeom prst="rect">
            <a:avLst/>
          </a:prstGeom>
          <a:ln w="12700">
            <a:solidFill>
              <a:srgbClr val="9dbfe5"/>
            </a:solidFill>
            <a:miter/>
          </a:ln>
        </p:spPr>
      </p:pic>
      <p:pic>
        <p:nvPicPr>
          <p:cNvPr id="151" name="Picture 1027" descr="Photo6"/>
          <p:cNvPicPr/>
          <p:nvPr/>
        </p:nvPicPr>
        <p:blipFill>
          <a:blip r:embed="rId2"/>
          <a:stretch/>
        </p:blipFill>
        <p:spPr>
          <a:xfrm>
            <a:off x="4057560" y="3143160"/>
            <a:ext cx="4781160" cy="3297600"/>
          </a:xfrm>
          <a:prstGeom prst="rect">
            <a:avLst/>
          </a:prstGeom>
          <a:ln w="12700">
            <a:solidFill>
              <a:srgbClr val="9dbfe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692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s" sz="3600" spc="-1" strike="noStrike">
                <a:solidFill>
                  <a:srgbClr val="002a6c"/>
                </a:solidFill>
                <a:latin typeface="Gill Sans MT"/>
              </a:rPr>
              <a:t>¿Es la prevención de infecciones un problema </a:t>
            </a:r>
            <a:br>
              <a:rPr sz="3600"/>
            </a:br>
            <a:r>
              <a:rPr b="1" lang="es" sz="3600" spc="-1" strike="noStrike">
                <a:solidFill>
                  <a:srgbClr val="002a6c"/>
                </a:solidFill>
                <a:latin typeface="Gill Sans MT"/>
              </a:rPr>
              <a:t>en su </a:t>
            </a:r>
            <a:r>
              <a:rPr b="1" lang="es-ES" sz="3600" spc="-1" strike="noStrike">
                <a:solidFill>
                  <a:srgbClr val="002a6c"/>
                </a:solidFill>
                <a:latin typeface="Gill Sans MT"/>
              </a:rPr>
              <a:t>establecimiento</a:t>
            </a:r>
            <a:r>
              <a:rPr b="1" lang="es" sz="3600" spc="-1" strike="noStrike">
                <a:solidFill>
                  <a:srgbClr val="002a6c"/>
                </a:solidFill>
                <a:latin typeface="Gill Sans MT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BD00028_"/>
          <p:cNvPicPr/>
          <p:nvPr/>
        </p:nvPicPr>
        <p:blipFill>
          <a:blip r:embed="rId1"/>
          <a:stretch/>
        </p:blipFill>
        <p:spPr>
          <a:xfrm>
            <a:off x="2876400" y="2209680"/>
            <a:ext cx="3390480" cy="33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uadroTexto 1"/>
          <p:cNvSpPr/>
          <p:nvPr/>
        </p:nvSpPr>
        <p:spPr>
          <a:xfrm>
            <a:off x="1143000" y="1905120"/>
            <a:ext cx="6933960" cy="15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3200" spc="-1" strike="noStrike">
                <a:solidFill>
                  <a:srgbClr val="002a6c"/>
                </a:solidFill>
                <a:latin typeface="Gill Sans MT"/>
              </a:rPr>
              <a:t>Para obtener más información, vi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3200" spc="-1" strike="noStrike">
                <a:solidFill>
                  <a:srgbClr val="002a6c"/>
                </a:solidFill>
                <a:latin typeface="Gill Sans MT"/>
              </a:rPr>
              <a:t>www.mcsprogram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2"/>
          <p:cNvSpPr/>
          <p:nvPr/>
        </p:nvSpPr>
        <p:spPr>
          <a:xfrm>
            <a:off x="914400" y="3733920"/>
            <a:ext cx="7391160" cy="11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Esta presentación es posible gracias al generoso aporte de los estadounidenses a través de la Agencia de los Estados Unidos para el Desarrollo Internacional (USAID) en virtud de los términos del Acuerdo de cooperación AID-OAA-A-14-00028. El contenido es responsabilidad de los autores y no refleja necesariamente los puntos de vista de USAID o del Gobierno de los Estados Un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CSP_PowerPoint">
  <a:themeElements>
    <a:clrScheme name="MCSP">
      <a:dk1>
        <a:srgbClr val="000000"/>
      </a:dk1>
      <a:lt1>
        <a:srgbClr val="777777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CSP_PowerPoint">
  <a:themeElements>
    <a:clrScheme name="MCSP">
      <a:dk1>
        <a:srgbClr val="000000"/>
      </a:dk1>
      <a:lt1>
        <a:srgbClr val="777777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CSP_PowerPoint">
  <a:themeElements>
    <a:clrScheme name="MCSP">
      <a:dk1>
        <a:srgbClr val="000000"/>
      </a:dk1>
      <a:lt1>
        <a:srgbClr val="777777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Final Documents Content Type" ma:contentTypeID="0x010100B9FB6409CD70674ABB5349969E1C67F600417965DF27792E4D905388C3849F97E9" ma:contentTypeVersion="31" ma:contentTypeDescription="" ma:contentTypeScope="" ma:versionID="daebe21daf2f026d17f0e4dab69abddd">
  <xsd:schema xmlns:xsd="http://www.w3.org/2001/XMLSchema" xmlns:xs="http://www.w3.org/2001/XMLSchema" xmlns:p="http://schemas.microsoft.com/office/2006/metadata/properties" xmlns:ns2="f0785ec1-1048-4400-be50-ab24b43b924b" xmlns:ns3="http://schemas.microsoft.com/sharepoint.v3" targetNamespace="http://schemas.microsoft.com/office/2006/metadata/properties" ma:root="true" ma:fieldsID="97b5d57c68703c564ba295d338139cb8" ns2:_="" ns3:_="">
    <xsd:import namespace="f0785ec1-1048-4400-be50-ab24b43b924b"/>
    <xsd:import namespace="http://schemas.microsoft.com/sharepoint.v3"/>
    <xsd:element name="properties">
      <xsd:complexType>
        <xsd:sequence>
          <xsd:element name="documentManagement">
            <xsd:complexType>
              <xsd:all>
                <xsd:element ref="ns2:Country_x0020_Technical_x0020_Team" minOccurs="0"/>
                <xsd:element ref="ns2:Description_x002f_Notes" minOccurs="0"/>
                <xsd:element ref="ns2:o1270e96c55b4d968cd1b3c2f154ff87" minOccurs="0"/>
                <xsd:element ref="ns2:TaxCatchAll" minOccurs="0"/>
                <xsd:element ref="ns2:TaxCatchAllLabel" minOccurs="0"/>
                <xsd:element ref="ns2:d752e56ead884e3fa239de669a13281d" minOccurs="0"/>
                <xsd:element ref="ns3:CategoryDescription" minOccurs="0"/>
                <xsd:element ref="ns2:a55e2a9178474b4bb01140e591eaac61" minOccurs="0"/>
                <xsd:element ref="ns2:k4fa48eb2d7b427a813ce27bfad0cec3" minOccurs="0"/>
                <xsd:element ref="ns2:c25934d968004dbc9e688abe03a61615" minOccurs="0"/>
                <xsd:element ref="ns2:k427ab633b7b4938a54a20aba39a9ba7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f0785ec1-1048-4400-be50-ab24b43b924b" elementFormDefault="qualified">
    <xsd:import namespace="http://schemas.microsoft.com/office/2006/documentManagement/types"/>
    <xsd:import namespace="http://schemas.microsoft.com/office/infopath/2007/PartnerControls"/>
    <xsd:element name="Country_x0020_Technical_x0020_Team" ma:index="1" nillable="true" ma:displayName="MCSP Team" ma:default="Communications" ma:internalName="Country_x0020_Technical_x0020_Team">
      <xsd:simpleType>
        <xsd:restriction base="dms:Text">
          <xsd:maxLength value="255"/>
        </xsd:restriction>
      </xsd:simpleType>
    </xsd:element>
    <xsd:element name="Description_x002f_Notes" ma:index="8" nillable="true" ma:displayName="Description/Notes" ma:internalName="Description_x002F_Notes" ma:readOnly="false">
      <xsd:simpleType>
        <xsd:restriction base="dms:Note">
          <xsd:maxLength value="255"/>
        </xsd:restriction>
      </xsd:simpleType>
    </xsd:element>
    <xsd:element name="o1270e96c55b4d968cd1b3c2f154ff87" ma:index="10" nillable="true" ma:taxonomy="true" ma:internalName="o1270e96c55b4d968cd1b3c2f154ff87" ma:taxonomyFieldName="Country_x0020_Team" ma:displayName="Country Team Tags" ma:readOnly="false" ma:default="" ma:fieldId="{81270e96-c55b-4d96-8cd1-b3c2f154ff87}" ma:taxonomyMulti="true" ma:sspId="ec767cac-7ca2-4fcb-9b87-cea637044337" ma:termSetId="d4b10962-4fd8-4b73-804a-123b6a8997e6" ma:anchorId="00000000-0000-0000-0000-000000000000" ma:open="false" ma:isKeyword="false">
      <xsd:complexType>
        <xsd:sequence>
          <xsd:element ref="pc:Terms" minOccurs="0" maxOccurs="1"/>
        </xsd:sequence>
      </xsd:complexType>
    </xsd:element>
    <xsd:element name="TaxCatchAll" ma:index="11" nillable="true" ma:displayName="Taxonomy Catch All Column" ma:hidden="true" ma:list="{64b7ccb9-42e3-4c7c-9f7c-42ec49a0b118}" ma:internalName="TaxCatchAll" ma:showField="CatchAllData" ma:web="f0785ec1-1048-4400-be50-ab24b43b924b">
      <xsd:complexType>
        <xsd:complexContent>
          <xsd:extension base="dms:MultiChoiceLookup">
            <xsd:sequence>
              <xsd:element name="Value" type="dms:Lookup" maxOccurs="unbounded" minOccurs="0" nillable="true"/>
            </xsd:sequence>
          </xsd:extension>
        </xsd:complexContent>
      </xsd:complexType>
    </xsd:element>
    <xsd:element name="TaxCatchAllLabel" ma:index="12" nillable="true" ma:displayName="Taxonomy Catch All Column1" ma:hidden="true" ma:list="{64b7ccb9-42e3-4c7c-9f7c-42ec49a0b118}" ma:internalName="TaxCatchAllLabel" ma:readOnly="true" ma:showField="CatchAllDataLabel" ma:web="f0785ec1-1048-4400-be50-ab24b43b924b">
      <xsd:complexType>
        <xsd:complexContent>
          <xsd:extension base="dms:MultiChoiceLookup">
            <xsd:sequence>
              <xsd:element name="Value" type="dms:Lookup" maxOccurs="unbounded" minOccurs="0" nillable="true"/>
            </xsd:sequence>
          </xsd:extension>
        </xsd:complexContent>
      </xsd:complexType>
    </xsd:element>
    <xsd:element name="d752e56ead884e3fa239de669a13281d" ma:index="14" nillable="true" ma:taxonomy="true" ma:internalName="d752e56ead884e3fa239de669a13281d" ma:taxonomyFieldName="Cross_x002d_cutting_x0020_Team" ma:displayName="Cross-cutting Area Tags" ma:readOnly="false" ma:default="" ma:fieldId="{d752e56e-ad88-4e3f-a239-de669a13281d}" ma:taxonomyMulti="true" ma:sspId="ec767cac-7ca2-4fcb-9b87-cea637044337" ma:termSetId="bf6245ec-2970-481b-b576-f0bd14ff4328" ma:anchorId="00000000-0000-0000-0000-000000000000" ma:open="false" ma:isKeyword="false">
      <xsd:complexType>
        <xsd:sequence>
          <xsd:element ref="pc:Terms" minOccurs="0" maxOccurs="1"/>
        </xsd:sequence>
      </xsd:complexType>
    </xsd:element>
    <xsd:element name="a55e2a9178474b4bb01140e591eaac61" ma:index="17" nillable="true" ma:taxonomy="true" ma:internalName="a55e2a9178474b4bb01140e591eaac61" ma:taxonomyFieldName="Descriptive_x0020_Tags" ma:displayName="Organization/Initiative Tags" ma:default="" ma:fieldId="{a55e2a91-7847-4b4b-b011-40e591eaac61}" ma:taxonomyMulti="true" ma:sspId="ec767cac-7ca2-4fcb-9b87-cea637044337" ma:termSetId="bb3207ae-ec12-4e3b-99d0-1ac6a33ead5e" ma:anchorId="00000000-0000-0000-0000-000000000000" ma:open="true" ma:isKeyword="false">
      <xsd:complexType>
        <xsd:sequence>
          <xsd:element ref="pc:Terms" minOccurs="0" maxOccurs="1"/>
        </xsd:sequence>
      </xsd:complexType>
    </xsd:element>
    <xsd:element name="k4fa48eb2d7b427a813ce27bfad0cec3" ma:index="19" nillable="true" ma:taxonomy="true" ma:internalName="k4fa48eb2d7b427a813ce27bfad0cec3" ma:taxonomyFieldName="Technical_x0020_Team" ma:displayName="Technical Area Tags" ma:readOnly="false" ma:default="" ma:fieldId="{44fa48eb-2d7b-427a-813c-e27bfad0cec3}" ma:taxonomyMulti="true" ma:sspId="ec767cac-7ca2-4fcb-9b87-cea637044337" ma:termSetId="b068aada-bd63-4acb-8779-dfe704f14a94" ma:anchorId="00000000-0000-0000-0000-000000000000" ma:open="false" ma:isKeyword="false">
      <xsd:complexType>
        <xsd:sequence>
          <xsd:element ref="pc:Terms" minOccurs="0" maxOccurs="1"/>
        </xsd:sequence>
      </xsd:complexType>
    </xsd:element>
    <xsd:element name="c25934d968004dbc9e688abe03a61615" ma:index="21" nillable="true" ma:taxonomy="true" ma:internalName="c25934d968004dbc9e688abe03a61615" ma:taxonomyFieldName="Content_x0020_Type" ma:displayName="Resource Type Tags" ma:readOnly="false" ma:default="" ma:fieldId="{c25934d9-6800-4dbc-9e68-8abe03a61615}" ma:taxonomyMulti="true" ma:sspId="ec767cac-7ca2-4fcb-9b87-cea637044337" ma:termSetId="72d02951-e07e-491d-8c93-fb4f0370e9ba" ma:anchorId="00000000-0000-0000-0000-000000000000" ma:open="true" ma:isKeyword="false">
      <xsd:complexType>
        <xsd:sequence>
          <xsd:element ref="pc:Terms" minOccurs="0" maxOccurs="1"/>
        </xsd:sequence>
      </xsd:complexType>
    </xsd:element>
    <xsd:element name="k427ab633b7b4938a54a20aba39a9ba7" ma:index="23" nillable="true" ma:taxonomy="true" ma:internalName="k427ab633b7b4938a54a20aba39a9ba7" ma:taxonomyFieldName="Intervention_x0020_Type" ma:displayName="Intervention Type Tags" ma:default="" ma:fieldId="{4427ab63-3b7b-4938-a54a-20aba39a9ba7}" ma:taxonomyMulti="true" ma:sspId="ec767cac-7ca2-4fcb-9b87-cea637044337" ma:termSetId="b58302f1-69ce-475b-8c6e-4b62fb5d1090" ma:anchorId="00000000-0000-0000-0000-000000000000" ma:open="true" ma:isKeyword="false">
      <xsd:complexType>
        <xsd:sequence>
          <xsd:element ref="pc:Terms" minOccurs="0" maxOccurs="1"/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.v3" elementFormDefault="qualified">
    <xsd:import namespace="http://schemas.microsoft.com/office/2006/documentManagement/types"/>
    <xsd:import namespace="http://schemas.microsoft.com/office/infopath/2007/PartnerControls"/>
    <xsd:element name="CategoryDescription" ma:index="16" nillable="true" ma:displayName="Description" ma:hidden="true" ma:internalName="CategoryDescription" ma:readOnly="false">
      <xsd:simpleType>
        <xsd:restriction base="dms:Text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24" ma:displayName="Content Type"/>
        <xsd:element ref="dc:title" minOccurs="0" maxOccurs="1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30FBBF40-42AF-4072-B7ED-5E8F1D4F9D1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f0785ec1-1048-4400-be50-ab24b43b924b"/>
    <ds:schemaRef ds:uri="http://schemas.microsoft.com/sharepoint.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C39A011C-0E51-4428-BFB1-667872945D4F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CSP_PowerPoint_Template</Template>
  <TotalTime>386</TotalTime>
  <Application>LibreOffice/7.4.7.2$Linux_X86_64 LibreOffice_project/40$Build-2</Application>
  <AppVersion>15.0000</AppVersion>
  <Words>190</Words>
  <Paragraphs>23</Paragraphs>
  <Company>Jhpieg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0T20:13:46Z</dcterms:created>
  <dc:creator>Jacqueline Wille;Maternal and Child Survival Program</dc:creator>
  <dc:description/>
  <cp:keywords>MCSP USAID MRLD</cp:keywords>
  <dc:language>en-US</dc:language>
  <cp:lastModifiedBy>Katherine Bisulca</cp:lastModifiedBy>
  <cp:lastPrinted>2016-08-09T19:12:01Z</cp:lastPrinted>
  <dcterms:modified xsi:type="dcterms:W3CDTF">2018-05-23T13:17:02Z</dcterms:modified>
  <cp:revision>37</cp:revision>
  <dc:subject/>
  <dc:title>Actividad 5-2: Imágenes: ¿Qué está correcto o incorrecto en estas imágenes? Módulo 5: Prevención de infecciones para Métodos Reversibles de Larga Dur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Description">
    <vt:lpwstr/>
  </property>
  <property fmtid="{D5CDD505-2E9C-101B-9397-08002B2CF9AE}" pid="3" name="ContentTypeId">
    <vt:lpwstr>0x010100B9FB6409CD70674ABB5349969E1C67F600417965DF27792E4D905388C3849F97E9</vt:lpwstr>
  </property>
  <property fmtid="{D5CDD505-2E9C-101B-9397-08002B2CF9AE}" pid="4" name="Content_x0020_Type">
    <vt:lpwstr/>
  </property>
  <property fmtid="{D5CDD505-2E9C-101B-9397-08002B2CF9AE}" pid="5" name="Country Technical Team">
    <vt:lpwstr>Communications</vt:lpwstr>
  </property>
  <property fmtid="{D5CDD505-2E9C-101B-9397-08002B2CF9AE}" pid="6" name="Country_x0020_Team">
    <vt:lpwstr/>
  </property>
  <property fmtid="{D5CDD505-2E9C-101B-9397-08002B2CF9AE}" pid="7" name="Cross_x005F_x002d_cutting_x0020_Team">
    <vt:lpwstr/>
  </property>
  <property fmtid="{D5CDD505-2E9C-101B-9397-08002B2CF9AE}" pid="8" name="Description/Notes">
    <vt:lpwstr/>
  </property>
  <property fmtid="{D5CDD505-2E9C-101B-9397-08002B2CF9AE}" pid="9" name="Descriptive Tags">
    <vt:lpwstr/>
  </property>
  <property fmtid="{D5CDD505-2E9C-101B-9397-08002B2CF9AE}" pid="10" name="Intervention_x0020_Type">
    <vt:lpwstr/>
  </property>
  <property fmtid="{D5CDD505-2E9C-101B-9397-08002B2CF9AE}" pid="11" name="Notes">
    <vt:r8>9</vt:r8>
  </property>
  <property fmtid="{D5CDD505-2E9C-101B-9397-08002B2CF9AE}" pid="12" name="Order">
    <vt:r8>99100</vt:r8>
  </property>
  <property fmtid="{D5CDD505-2E9C-101B-9397-08002B2CF9AE}" pid="13" name="PresentationFormat">
    <vt:lpwstr>On-screen Show (4:3)</vt:lpwstr>
  </property>
  <property fmtid="{D5CDD505-2E9C-101B-9397-08002B2CF9AE}" pid="14" name="Slides">
    <vt:r8>9</vt:r8>
  </property>
  <property fmtid="{D5CDD505-2E9C-101B-9397-08002B2CF9AE}" pid="15" name="TaxCatchAll">
    <vt:lpwstr/>
  </property>
  <property fmtid="{D5CDD505-2E9C-101B-9397-08002B2CF9AE}" pid="16" name="Technical_x0020_Team">
    <vt:lpwstr/>
  </property>
  <property fmtid="{D5CDD505-2E9C-101B-9397-08002B2CF9AE}" pid="17" name="_dlc_DocIdItemGuid">
    <vt:lpwstr>acfa97ba-74b0-413e-b0ac-e36823ddba54</vt:lpwstr>
  </property>
  <property fmtid="{D5CDD505-2E9C-101B-9397-08002B2CF9AE}" pid="18" name="a55e2a9178474b4bb01140e591eaac61">
    <vt:lpwstr/>
  </property>
  <property fmtid="{D5CDD505-2E9C-101B-9397-08002B2CF9AE}" pid="19" name="c25934d968004dbc9e688abe03a61615">
    <vt:lpwstr/>
  </property>
  <property fmtid="{D5CDD505-2E9C-101B-9397-08002B2CF9AE}" pid="20" name="d752e56ead884e3fa239de669a13281d">
    <vt:lpwstr/>
  </property>
  <property fmtid="{D5CDD505-2E9C-101B-9397-08002B2CF9AE}" pid="21" name="k427ab633b7b4938a54a20aba39a9ba7">
    <vt:lpwstr/>
  </property>
  <property fmtid="{D5CDD505-2E9C-101B-9397-08002B2CF9AE}" pid="22" name="k4fa48eb2d7b427a813ce27bfad0cec3">
    <vt:lpwstr/>
  </property>
  <property fmtid="{D5CDD505-2E9C-101B-9397-08002B2CF9AE}" pid="23" name="o1270e96c55b4d968cd1b3c2f154ff87">
    <vt:lpwstr/>
  </property>
</Properties>
</file>